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FDFC-710B-4259-A510-A873226BF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FBE9-F4CF-4B78-AB23-2C4770FF1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E6C7-D15C-4D8F-9CF6-CDC4706E2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3EF-8F98-41C7-ADF1-CA34678C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FD7-DA2F-4615-924D-AC6DC244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19B-58A2-4305-A532-D45A8D54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173-CD62-4847-BAF1-CDFECD07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C68-0228-4082-A873-B0C18909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61F-5824-42F3-A5FA-3F441AD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AAB-3EFB-4EE3-BBCB-29CA81CD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270-9CBD-4175-91EB-FB3FCDEF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BEC-5799-42DF-8283-EEDAB4FD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7B8-94D9-4367-A4B9-13C518B4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5D7-9016-430A-922A-D76146E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4D3-4EB1-45E8-A382-8F8FDD7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857-4251-4C93-9D73-6B0E3C022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Routers - Cisco cBR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PEM-AC-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956040" y="3471840"/>
            <a:ext cx="123192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PEM-DC-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956040" y="3471840"/>
            <a:ext cx="123192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RF-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146480" y="3554280"/>
            <a:ext cx="85104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RF-PROT-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146480" y="3554280"/>
            <a:ext cx="85104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SUP-8X10G-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146480" y="3511440"/>
            <a:ext cx="8510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SUP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960720" y="3511440"/>
            <a:ext cx="12225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SUP-PIC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146480" y="3511440"/>
            <a:ext cx="8510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726000" y="884160"/>
            <a:ext cx="1692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8-CCAP-CHAS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898800" y="2816280"/>
            <a:ext cx="134640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8-CCAP-CHAS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98800" y="2816280"/>
            <a:ext cx="134640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CCAP-SUP-160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60720" y="3511440"/>
            <a:ext cx="12225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FAN-ASSEM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373640" y="3483000"/>
            <a:ext cx="39672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LC-8D31-16U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956040" y="3554280"/>
            <a:ext cx="123192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LC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956040" y="3554280"/>
            <a:ext cx="123192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BR-LC-PIC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146480" y="3554280"/>
            <a:ext cx="85104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 Klapel</cp:lastModifiedBy>
  <dcterms:modified xsi:type="dcterms:W3CDTF">2015-11-18T17:35:10Z</dcterms:modified>
  <cp:revision>5</cp:revision>
  <dc:subject/>
  <dc:title>Slide 1</dc:title>
</cp:coreProperties>
</file>